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EB8-30C8-4737-9543-21B40918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E10-1C29-46F7-8387-C284E09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4B2-F9CC-40BC-BD20-71140FB5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9E2-71A3-4640-9BF6-4A5D1A0F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868-3DB0-4153-827D-26CA8E1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4EA-57CE-487E-932E-3D824951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C22-4C30-48F7-BD31-EEDB99B3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4FA-E4F9-4A02-98FD-9B333234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203-EA8F-4BEA-B0B7-47B0F7C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598-5C61-4C8B-99D1-B1C2EA92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3CC-5A6F-47F8-93B0-19CC9D7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BCB-CF82-4C2E-9063-14EBF50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8F1-AFD2-461D-B954-BB733C7CF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g"/>
          <p:cNvPicPr/>
          <p:nvPr/>
        </p:nvPicPr>
        <p:blipFill>
          <a:blip r:embed="rId1"/>
          <a:stretch/>
        </p:blipFill>
        <p:spPr>
          <a:xfrm>
            <a:off x="108000" y="1773360"/>
            <a:ext cx="8934480" cy="4000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692360" y="2349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 map for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012000" y="170028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0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77080" y="551664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 -1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55640" y="551664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 0 0 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Ti"/>
          <p:cNvPicPr/>
          <p:nvPr/>
        </p:nvPicPr>
        <p:blipFill>
          <a:blip r:embed="rId1"/>
          <a:stretch/>
        </p:blipFill>
        <p:spPr>
          <a:xfrm>
            <a:off x="66600" y="1413000"/>
            <a:ext cx="9010800" cy="4000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692360" y="19177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 map for 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12000" y="127008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0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77080" y="508644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 -1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508644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 0 0 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Zn"/>
          <p:cNvPicPr/>
          <p:nvPr/>
        </p:nvPicPr>
        <p:blipFill>
          <a:blip r:embed="rId1"/>
          <a:stretch/>
        </p:blipFill>
        <p:spPr>
          <a:xfrm>
            <a:off x="108000" y="1484280"/>
            <a:ext cx="8962920" cy="3933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692360" y="19908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 map for 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12000" y="134136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0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77080" y="51577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 -1 -1 0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51577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0 0 0 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7T23:16:23Z</dcterms:created>
  <dc:creator>wps</dc:creator>
  <dc:description/>
  <dc:language>en-US</dc:language>
  <cp:lastModifiedBy>kailiu</cp:lastModifiedBy>
  <dcterms:modified xsi:type="dcterms:W3CDTF">2022-10-27T23:16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/>
  </property>
  <property fmtid="{D5CDD505-2E9C-101B-9397-08002B2CF9AE}" pid="3" name="KSOProductBuildVer">
    <vt:lpwstr>1033-11.1.0.11664</vt:lpwstr>
  </property>
</Properties>
</file>